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0F8-D438-4247-A14D-4361FDC6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62E-4DBD-4A79-816A-0AEC5F8C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703-8411-4BAA-96B4-2FED346C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D8C-AF5F-4C02-9253-18F41020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946B-96F6-4F6A-A857-CE272E12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C27E-B5C0-4945-A72E-507F15C9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5008-C1AE-40B5-8965-591C7B26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20F4-6185-4FA5-A011-59BF5F61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D743-1B63-481D-9193-E0436389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AEEE-BE14-436C-A692-FF25D028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3D13-0DDD-413E-AF68-73B936A7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0EE-75B0-4DD4-B1E1-7676BE61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F42-4AA7-42B7-9504-0A7CA226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7DB2-07A8-4FA4-AD62-E61AC92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F9D-04E4-43FA-9A73-07A67816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98E4-CBBE-4A5C-A673-A28CC343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AA1F-6E49-4407-92C0-B41EADE9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D85-E984-41E0-BB7B-8EC93A7F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2FE-A3C7-4D71-8F74-97BE4ADB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94A-6150-494B-BC70-4A7A3C6C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F2A-342B-4077-94FE-42A296C8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15E-5605-426D-892B-4E238831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F23-6181-4F4A-98DC-910B0A84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2B9-3FA6-41AD-96BA-83D32561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0A15-9EC0-481C-ABE1-884AD5B977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E422-65A8-4FA6-9B34-9E572D63B0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ЛАНИРАЊЕ ЉУДСКИХ РЕСУРС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интерне понуде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аза података о запосленима (инвентар талената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нтитативни мето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виђање стопе флукту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па флултуац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број запослених који напушта организацију / просечан укупан број запослених у организациј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декс стабил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726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Марковљев метод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интерне понуде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литативни мето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ирање премешт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ланирање сукцеције менаџ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Графикон сукцесије менаџер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екстерне понуде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ализа тржишта ра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онуде по занимањима и квалификаци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осна структура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а структура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графска диспер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нденције на тржишту 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ућности за преквалифик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склађивање понуде и тражњ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тернативни исхо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внот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ефи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фи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и за решавање де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и за решавање су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планир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дименз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литативна дим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потребна вредност планова људских рес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нтитативна дим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цизност у предвиђању траж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цизност у одређивању проду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4989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цизност у пројектовању стопе флуктуације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ојам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ирање људских ресурс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хват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цес антиципирањ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угорочне понуде и тражње за људским ресурсима у релативно променљивим условима у организацији и ван ње, као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јачање програ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зајнираних тако да се задовоље организационе потребе за знањ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ојам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ирање људских ресурс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ширем смислу обухв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двиђање понуде и тражње за људским ресур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инисање планова актив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ре за усклађивање понуде и траж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ормулисање интегративног пл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лан практичног спровођења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Значај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ицај на буџет зарада и 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изација коришћења људских ресурса у организ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грација људских ресурса и бизнис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апређење процеса стратегијског управљања људским ресур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форма за преговоре са синдика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лементи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ски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осиоц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цеса план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оку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лан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грегат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лан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дивидуал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лан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оцес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купљање података о окруже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кстер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слови у привреди и привредној гра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ехнолог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нкуренц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ржиште рада и пратећи зако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тер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Људски ресурс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труктура и процес рад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5144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им пословањ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оцес планирања људских ресур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двиђање понуде и тражње за људским ресур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валитативни мет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вантитативни мет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склађивање понуде и траж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авање проблема де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авање проблема су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валуација и кориговање п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тражње за људским ресурс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литативни (субјективни) мет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виђање одоздо на г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виђање одозго на д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лфи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хника номиналн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едвиђање тражње за људским ресурс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вантитативни методи (математички и статистичк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цио проду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/П рац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ва учења и индекс прогр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уџет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енске серија (тренд анали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шеструка регре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неарно програм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3T06:34:30Z</dcterms:modified>
  <cp:revision>140</cp:revision>
  <dc:subject/>
  <dc:title>Soft and Hard Skills Development: A Current Situation in Serbian Companies</dc:title>
</cp:coreProperties>
</file>